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0F676-B276-48E6-B8E9-D7365D9BB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3BFC-9A44-42FA-B14C-145D76A1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67E6C-3AA7-46D5-9AA5-79DB5E75F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EA59-74BB-4ACB-86CA-EB5AB0A64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1B0A-B033-4048-8A6E-BDEC4D7E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57A8B-6D13-4514-9903-B2FB88830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939D8-76B3-4B66-879A-11DF4D17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9F18F-B6D1-4FDF-9F11-0C5571D89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BD26E-85DF-4BF8-BE73-E0D3736F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E4AC0-337C-4F8A-84EF-93D96F465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A400D-96A6-41DA-B914-9049BD6CD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9BFE-887D-4532-8A17-A83C3F3D7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F4E-B922-4793-A323-6364ADC3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FC9EB-B3A8-40EE-8BC6-A4F57EDC1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D4EB-846B-477D-B482-9A6375124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AB220-9973-49A1-BC58-1C627D44D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D494D-0691-4E19-9045-E363D1DFA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E9B29-2692-4AEE-A7FD-B2ACF269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A845-7FB5-458E-9EF3-BD180C72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347D-FF67-4374-8A65-4F5813A55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034E-C182-4A7B-9B7A-99A11C951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8FD8-71BF-489B-8C61-30D7547EC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1FD8-823D-43A9-ACC2-216E4C8E0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2946-2B4B-4E7D-9029-C64F0952C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0CDDC-19E8-4CB3-8AFD-B1BA68E46B19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BB4AA-1FCF-42AD-A280-6AE3AD007DA1}" type="slidenum">
              <a:rPr b="0" lang="es-E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4648320" y="4114440"/>
            <a:ext cx="4038480" cy="1981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213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4500720" y="0"/>
            <a:ext cx="4643280" cy="311472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5" name="" descr=""/>
          <p:cNvPicPr/>
          <p:nvPr/>
        </p:nvPicPr>
        <p:blipFill>
          <a:blip r:embed="rId5"/>
          <a:stretch/>
        </p:blipFill>
        <p:spPr>
          <a:xfrm>
            <a:off x="4572000" y="3141720"/>
            <a:ext cx="4572000" cy="29512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0" y="3141720"/>
            <a:ext cx="4500720" cy="295128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7" name="" descr=""/>
          <p:cNvPicPr/>
          <p:nvPr/>
        </p:nvPicPr>
        <p:blipFill>
          <a:blip r:embed="rId7"/>
          <a:stretch/>
        </p:blipFill>
        <p:spPr>
          <a:xfrm>
            <a:off x="4572000" y="0"/>
            <a:ext cx="4572000" cy="7668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8" name="" descr=""/>
          <p:cNvPicPr/>
          <p:nvPr/>
        </p:nvPicPr>
        <p:blipFill>
          <a:blip r:embed="rId8"/>
          <a:stretch/>
        </p:blipFill>
        <p:spPr>
          <a:xfrm>
            <a:off x="0" y="6093000"/>
            <a:ext cx="4500720" cy="76500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89" name="" descr=""/>
          <p:cNvPicPr/>
          <p:nvPr/>
        </p:nvPicPr>
        <p:blipFill>
          <a:blip r:embed="rId9"/>
          <a:stretch/>
        </p:blipFill>
        <p:spPr>
          <a:xfrm>
            <a:off x="4643280" y="6021360"/>
            <a:ext cx="4500720" cy="8366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sp>
        <p:nvSpPr>
          <p:cNvPr id="90" name=""/>
          <p:cNvSpPr/>
          <p:nvPr/>
        </p:nvSpPr>
        <p:spPr>
          <a:xfrm>
            <a:off x="2627280" y="0"/>
            <a:ext cx="1800360" cy="520560"/>
          </a:xfrm>
          <a:prstGeom prst="rect">
            <a:avLst/>
          </a:prstGeom>
          <a:solidFill>
            <a:srgbClr val="ffffff"/>
          </a:solidFill>
          <a:ln w="7632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ff"/>
                </a:solidFill>
                <a:latin typeface="Tahoma"/>
              </a:rPr>
              <a:t>LATIU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-243000"/>
            <a:ext cx="8713800" cy="65804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0920" y="6114960"/>
            <a:ext cx="8713800" cy="743040"/>
          </a:xfrm>
          <a:prstGeom prst="rect">
            <a:avLst/>
          </a:prstGeom>
          <a:ln w="76320">
            <a:solidFill>
              <a:srgbClr val="00cc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10:06:28Z</dcterms:created>
  <dc:creator>IES</dc:creator>
  <dc:description/>
  <dc:language>en-US</dc:language>
  <cp:lastModifiedBy>INVES-S6600A</cp:lastModifiedBy>
  <dcterms:modified xsi:type="dcterms:W3CDTF">2010-11-23T13:06:45Z</dcterms:modified>
  <cp:revision>4</cp:revision>
  <dc:subject/>
  <dc:title>Diapositiva 1</dc:title>
</cp:coreProperties>
</file>